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B49E4-A6EB-4600-861B-71A54299F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8BA77-CB06-42CC-BDD5-8CA805B857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Како и во претходните наставни единици, треба да се следи дневниот ред и очекуваните резултати дадени на почетокот на наставната еди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6DCDE-F5E7-4CEB-B288-D1E6D7BEC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71E75A-CBD5-4ECD-A8B7-1DE5F968E4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C999-73A2-4337-ACA6-0C727673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22B-2079-49BA-9ED5-EAA5CD89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4445-0590-490F-A11F-84586CC4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66E6-A859-4ED8-BF0E-8A242CBF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B1E-C104-4DE4-AD1B-0EEFB34B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ACC-B1F8-4D22-A488-133E6B53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30E2-78DC-4072-8FE4-60BA003A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1EE2-4AD2-454A-A1BC-35582BFC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F34-F0F2-4220-9BCA-B2BDAE4D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C25-1C82-460A-9C6E-EDF0DCD7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0AA-515E-40A2-93C8-106DBCDA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C64-7DCC-4B2B-92EA-4DC67706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0BC96-B45E-4555-BE11-8520ECA13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430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Calibri"/>
              </a:rPr>
              <a:t>Наставна единица 1.3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Calibri"/>
              </a:rPr>
              <a:t>Дневен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755640" y="1773360"/>
            <a:ext cx="777240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4300" spc="-1" strike="noStrike">
                <a:solidFill>
                  <a:srgbClr val="000000"/>
                </a:solidFill>
                <a:latin typeface="Calibri"/>
              </a:rPr>
              <a:t>Обука за органите за спроведување на законот како дел од првата екипа на местото на настанот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о предавањето на наставната единица слушателите ќе мож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опфатени со активностите од претходниот ден кои слушателите ги разбра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за кои слушателите треба уште еднаш да го поминат материјалот за да го постигнат потребното ниво на зна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Очекувани резулт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Дневен р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30000"/>
            <a:ext cx="851364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000000"/>
                </a:solidFill>
                <a:latin typeface="Calibri"/>
              </a:rPr>
              <a:t>Теми опфатени со предавањата од вториот д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ретрес и запле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Кој учествува и што треба да се зем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Обезбедување и документирање на местото на настан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ретрес и запле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Во ситуација на анализа на уреди од самото место на настан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04080" indent="-214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Во ситуација на проток на живи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Nigel Jones</dc:creator>
  <dc:description/>
  <dc:language>en-US</dc:language>
  <cp:lastModifiedBy>Daniela</cp:lastModifiedBy>
  <dcterms:modified xsi:type="dcterms:W3CDTF">2013-07-25T00:49:13Z</dcterms:modified>
  <cp:revision>17</cp:revision>
  <dc:subject/>
  <dc:title>Introductory Cybercrime Training for Judges and Prosecutors</dc:title>
</cp:coreProperties>
</file>